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DC3D-5159-439A-8E0D-A501417B602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A7B1-CD6E-48B1-A83D-9D0CB5C759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5820-0024-46C9-A8E4-B4F8F95DE1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718D-237C-4FB2-B2B4-B98367EFC1D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B0EE-EC81-4789-9395-D0FC0FCCEFB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ACCA-D165-4470-A79E-88C8B8F995B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DB78-E64B-4890-B462-FAB7BBCDB0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3505-247F-409D-AEB3-3FBB2187BC8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6318-DDFB-4810-9F41-D7AD12E109D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E987-609B-400B-83A6-DCF18117EC5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76BB-4B9E-4D00-8C27-AFC7A94731C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2626-43F1-47AE-9457-53EA64384CE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DF10-F6E8-4F3C-89EB-38A2CA1EE1C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3399-E75E-4431-9C59-50DF071A3B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DA02-B8D2-446D-8E1A-F97EA8A84A6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5F3C0-0487-47D3-B76E-C902EFE23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912A0-567F-4881-83BD-0A825FD5F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0CA11-C510-46C7-926C-A931AF242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28947-5BEA-4F14-90FF-12793782A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9F45B-95E7-49E3-8AE0-F8EA6C8F5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72302-B287-4D34-9639-87E13C71B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FB886-9570-498A-B396-00FB3EE6F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AFC8A-E388-43B3-8ECB-61BBF63B3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3F9E6-D168-49AB-977F-F863CD212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BAE5A-9C0F-4B20-87B4-F0F13B256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8A7B5-557D-42EB-801D-5A5E23D31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E7863-707A-4CFD-8F67-9A49E80F8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D655-945D-467C-99C3-7360FFFB1BB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4640"/>
            <a:ext cx="5543640" cy="609300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ommunicate by Twitte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9T20:48:07Z</dcterms:modified>
  <cp:revision>27</cp:revision>
  <dc:subject/>
  <dc:title>People who change the world</dc:title>
</cp:coreProperties>
</file>